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200A-C946-4B80-8F4D-D47D04221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62C0-02F0-4AE3-9129-283EE8162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DF78-AB00-474B-988F-A6EF18ACD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287E-97E6-446F-A55C-635C85E04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36A1-E707-4577-88B5-BF4CE15F8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B583-9FB0-44C2-960E-1024DF24E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61DF-CFA4-4B01-8390-349204F81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B30D-D7A2-42E9-A565-3A353DB75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A54D-3E94-4A4A-88C1-51C80D4FC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3287-0949-4F13-B22C-A2BBAEEB4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27FF-32CC-4A16-88E8-EBE99E88B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9B4B-D000-4432-9747-F47DF6E67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8A4B0-EF1A-436F-9D56-47D34B2DC6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53 Byť blízko teba, Pane môj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yť blízko teba, Pane mô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ú vrúcnu túžbu m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ď s hriechom zvádzam márny bo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zápasím len s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lákal by ma sveta kla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 svojich osídie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aj síl mi čeliť nástrah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rieť večnej spásy cie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iež Duch tvoj, Darca pokoj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ám býva, vládne v ná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ch človek vzdá sa odboj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na tvoj dbá len hl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 dávaš, Pane, víťazstvo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ier duši strápene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íď k nám už tvoje kráľovstvo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zbav svet moci zlej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10T09:38:49Z</dcterms:modified>
  <cp:revision>20</cp:revision>
  <dc:subject/>
  <dc:title>Je veľký náš Pán, on slávy je Kráľ Nech do všetkých strán  spev vrúcnych znie chvál.</dc:title>
</cp:coreProperties>
</file>